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803-B868-43BA-AFA7-171F08FB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F3D-DFEE-4CE8-8C7B-2A276FB0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411-736E-4A00-A2BF-E645AAA7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250-D7F5-4B69-A2A6-953894BA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878-F7F2-401E-9364-0DC03F85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53A6-819E-4AC1-A306-B7659C7B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430-F773-452D-992C-F3AAD99E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E73-9B7F-4372-8412-D732C920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91A-BE86-4B3F-B07A-A37EBF5E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4B4-76D3-4E97-996C-FE873A98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F5C-5509-4AE8-8525-89225DA1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E5E-BC0D-4618-A55C-4CB53060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6959-927D-4ACE-9838-A11F61C7D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izenship &amp; 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 4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12560" y="741240"/>
            <a:ext cx="4428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Types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Criminal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e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Misdemea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Civil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Laws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Public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Administrative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Statutory La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International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6200" y="114480"/>
            <a:ext cx="8052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VII: Development of Law/Criminal/Civil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cient Tra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on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Major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minal Law (Just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vil Law (Equity &amp; Compen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erty Disp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each of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mily Ma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qu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8440" y="320760"/>
            <a:ext cx="5429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aw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um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efendant’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etrial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ial, Verd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Appe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Crimina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e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isdemea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Pen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mpris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a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87680" y="320760"/>
            <a:ext cx="5211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r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reliminary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dic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rra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erd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enten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Juvenile Cou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elin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Juvenil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r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arent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35880" y="282600"/>
            <a:ext cx="502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leased or H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eliminary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ial (peer ju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erd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ent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Supreme Court R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In Re Gault 19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arent No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harges in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iranda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 Innocent Until Proven Gui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. Affects on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e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pic IV: Citizenship &amp; Democrac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D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Things that we MUST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Obey laws (most impor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ay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efend the 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Jury D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Established by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h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Obey the l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Most Impor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Why? (Proper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Pay T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Fund public services (schools, libra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Federal, State,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Federal Income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State Sales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Local Property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fend the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Selective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Lotte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Vietn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Serve in cou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Jury duty; Un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Witness, Supe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Attend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Mandatory School; 16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Wh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roblem solve, life 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I. Responsibil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. Things that we SHOULD 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Be informe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 Vo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 Toler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. Volunte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. Respect others rights &amp; prope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. No punish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Meant to benefit commun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Informed &amp; Vot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Gov’t affects your life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hare your approval/dis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Vote AFTER you are in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Majority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Gives consent to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Respect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Tolerance no matter what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All citizens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Ensures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Volunteer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Contribute to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ime, Effort,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eeded for democracy to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Peacecorps, Americorps, Seniorco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chool-based progr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Shared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Citizens &amp; Gov’t work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Gov’t cannot work quickly..Bureau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Promote general welfare; Health, Happ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6800" y="414360"/>
            <a:ext cx="75391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ultimate rulers of our democracy are not a president and senators and congressmen/women and government officials, but the voters of this country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Franklin D. Roosevel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Agree or Disagre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2880" y="1868400"/>
            <a:ext cx="32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93680" y="114480"/>
            <a:ext cx="610740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V. Citizenship &amp;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,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Think T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Museums,Arch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E-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Group Action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pecial Interes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ews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Election &amp;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undra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Grass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1240" y="365040"/>
            <a:ext cx="4877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.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Digit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Extremis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pag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riv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Internet Wiret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onsumer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. Regulation of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Free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In General &amp; At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Copy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Intellectual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ap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MCA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a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-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At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Filters,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Parent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359640" y="0"/>
            <a:ext cx="729000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VI. Legal Rights &amp;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s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ly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mmurabi 176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10 Command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Moral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Roman Law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Jurispru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Common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Prece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American Leg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U.S.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tare Dec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Articles, Bill of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Rights of the Ac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4th, 5th, 6th, 8th amendments (bai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Impartial 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lea Bar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Department of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9:00:44Z</dcterms:created>
  <dc:creator>Chatham Central</dc:creator>
  <dc:description/>
  <dc:language>en-US</dc:language>
  <cp:lastModifiedBy>Chatham County</cp:lastModifiedBy>
  <dcterms:modified xsi:type="dcterms:W3CDTF">2009-11-16T15:57:45Z</dcterms:modified>
  <cp:revision>10</cp:revision>
  <dc:subject/>
  <dc:title>Citizenship &amp; Community</dc:title>
</cp:coreProperties>
</file>